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AFB-02BE-4E0E-AC2A-8945029B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F0C-B8A4-4601-9853-59662FC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B84-0F95-4D53-9967-E1969820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3D1-10EC-4D2C-853A-2433AE25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1819-9361-450E-8A44-A7F6257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C29-7F40-4A75-B714-4F77CFC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D71-D666-4AB3-ADD0-33E07DE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BC3-65D2-4B20-AAB5-BA51E9D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D159-A643-46EC-B565-62AFD18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A5E-3C14-4258-9A2F-9AF7677A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C464-11D6-4CDA-97EF-BB77DDF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4A2-8B1D-4865-96F6-B846DE9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31FA-2213-4409-A699-6745C66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9F9-24E9-48DE-B01B-A0FDF1E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61F-BF2B-4360-ACEC-A804211B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D081-7D63-4884-961E-73AFF4FE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C5F-927C-406F-BEA7-457136E1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297-5A4C-43A5-A4E6-C108612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58E-E9FE-49F9-A03E-F5A1301A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925-DDB1-4FAA-A0EA-9DAC4AF7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08B-DAE0-4C5A-AD0C-18207D2E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F56-4D80-4CAF-8C32-2750670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8C8-8C84-4001-A7CF-0560CFB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7B9-4458-42F4-84FA-8F09283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8CC-211C-4F0E-A545-37FD6069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00F3-F8A6-462D-90C3-5B089D32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3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3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Christian Financial Principles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19920" y="3657600"/>
          <a:ext cx="1600200" cy="114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6576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4343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28800" y="5105520"/>
          <a:ext cx="5486400" cy="99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105520"/>
                    <a:ext cx="5486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58000" y="3352680"/>
          <a:ext cx="1600200" cy="1148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6002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800600" y="3733920"/>
          <a:ext cx="1600200" cy="1147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62520" y="3733920"/>
          <a:ext cx="1600200" cy="11476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71800" y="3733920"/>
          <a:ext cx="1600200" cy="11476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73392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981080" y="3657600"/>
          <a:ext cx="1600200" cy="11476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6576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3429000"/>
          <a:ext cx="1600200" cy="114768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3429000"/>
                    <a:ext cx="1600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Elements of a Financial Plan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at God Says About Finances (including proper attitude toward money &amp; th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Your Attitudes and Outlook Toward Money and Material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Your Financial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Manage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Pr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30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S00554_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41640" cy="186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The Plan Itself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to “Prove” God (Malachi 3: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Your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d Has Given You (What You 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You Use God’s Gifts (How You Spe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You In Deb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Goals (Giving, Saving, Spen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dget (computer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Your Habits &amp; Live In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The Plan Itself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Your Budget up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What You Spend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Out Where the Cash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 the Goals, Revise the Budget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The Plan Itself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Mess Up, Start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y (for Wisdom &amp; Help…not a change in circum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lks For Advice, Help And Encour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1488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S00559_" descr=""/>
          <p:cNvPicPr/>
          <p:nvPr/>
        </p:nvPicPr>
        <p:blipFill>
          <a:blip r:embed="rId1"/>
          <a:stretch/>
        </p:blipFill>
        <p:spPr>
          <a:xfrm>
            <a:off x="4724280" y="4876920"/>
            <a:ext cx="1486080" cy="84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Goals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Biblical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or God (Firstfru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for Nothing (Trust God for Necess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o Much that You Stop Depending on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the Gospel (Miss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/ Provide for Others In Need (Al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Worldly Goals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ism (Get More Th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  (Impress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Security (or so you th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fortable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8288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S00508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46204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Don’t Compare or Compete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Up With the Jon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Yourself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onsider God’s Purpose for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Compete With His Purpose for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6982_" descr=""/>
          <p:cNvPicPr/>
          <p:nvPr/>
        </p:nvPicPr>
        <p:blipFill>
          <a:blip r:embed="rId1"/>
          <a:stretch/>
        </p:blipFill>
        <p:spPr>
          <a:xfrm>
            <a:off x="2362320" y="3886200"/>
            <a:ext cx="5029200" cy="242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Budget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ol Not A Wea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What You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Manage Your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Bud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dget is A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j0257675" descr=""/>
          <p:cNvPicPr/>
          <p:nvPr/>
        </p:nvPicPr>
        <p:blipFill>
          <a:blip r:embed="rId1"/>
          <a:stretch/>
        </p:blipFill>
        <p:spPr>
          <a:xfrm>
            <a:off x="4952880" y="1884240"/>
            <a:ext cx="3733920" cy="384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Making Good Financial Decisions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Abadi MT Condensed Extra Bold"/>
              </a:rPr>
              <a:t>From Now On……</a:t>
            </a:r>
            <a:endParaRPr b="1" lang="en-US" sz="3200" spc="-1" strike="noStrike">
              <a:solidFill>
                <a:srgbClr val="221304"/>
              </a:solidFill>
              <a:latin typeface="Abadi MT Condensed Extra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something that I want or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 afford it without adding debt?              (Does it fit in my budge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going ahead with it vio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d says in the B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prayed about 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’s answer to my pr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know it is God’s will for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God be pleased with my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robbing G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22:21:15Z</dcterms:created>
  <dc:creator>Mike O'Mara</dc:creator>
  <dc:description/>
  <dc:language>en-US</dc:language>
  <cp:lastModifiedBy>Mike Omara</cp:lastModifiedBy>
  <dcterms:modified xsi:type="dcterms:W3CDTF">2006-10-02T19:55:07Z</dcterms:modified>
  <cp:revision>63</cp:revision>
  <dc:subject/>
  <dc:title>Elements of a Financial Plan</dc:title>
</cp:coreProperties>
</file>